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BBCA-DC7D-489F-B6FA-7C6E8D4B6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5CD2-0F2F-4930-9B8B-837F97A8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52EFF-39C9-4696-A3B1-299271A1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B58D2-F148-4ABB-80BA-3BA949C3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62F00-AD9E-4220-BEDF-E4BB82F3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D93764-B805-401F-9D99-DBFBF3E0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B8AA78-B0AC-45AC-B6BA-7EED0608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CE227-E2D4-4C55-A4AA-B291679D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A4A89-C0F3-4777-8D36-8F889D82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D0A34E-82E0-4CD7-9497-6E32B0C07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68486-E2D3-43F6-8DCF-F0D968203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F051ED-B27E-4DBD-821D-B4BEA56A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D7CE-E5CE-49DE-9931-B9E79F96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A5ADA4-603F-4C88-8E0A-3635A761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1738C-6335-48F9-8366-4339308F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18A9EC-B538-4D57-8758-6FE70EC3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338B90-B77D-41F6-B3A2-FE9A3B21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7B377-9948-4992-B28A-0EE87FB9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EA67A-31F7-4872-9938-ED45A2A9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531987-60F1-481A-9072-94830F86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C1F085-94D5-40EC-9227-41678D09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96FBF7-B5A4-4721-A4AA-CF020330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B65C2-D520-49BA-98DD-A1BAEEDAF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EF9A-D3D6-4B73-8A89-117AA5EBD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736760-0B2C-4E91-B1B6-A50E9998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354C8-A02C-4A88-A8DD-CE87C9BFB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69D90C-7A21-4C22-9524-C25E69B4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6F1A1-685D-44BC-A91C-38450B01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292B7-F669-4488-A5AA-513FF1B8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D7A73-5175-42DA-BAB9-1F662FF80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6D733-F3C5-4963-AA14-7705A338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66C74-94D7-45A7-BEC7-01F3DDD8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91AE2-BB53-4E99-BD1C-8AAA1BB1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215AB-4E63-45D1-AA03-A09CBDB9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F60F-B584-4654-B7DD-22CB9315E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BC4FE-2D23-46BC-83C8-583F939F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4DDEF-E9BC-47B9-8CC1-C7AD21C80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50236-360A-40C8-8053-F91F424F4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CFB07F-CCD5-4778-B55E-AEB554ADD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42B4C6-AAE5-481F-8E34-D501062C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7D539F-985B-4CD9-A29E-2A499CC9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6431E5-4E89-4F20-9D5C-E6600EF5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408787-5D78-4086-A371-A0D2BF96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A584FC-7706-42E2-80D4-FB0DDC5E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16B9E-3E01-40FC-89D1-35999DB0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7EFB-05D8-4EBD-8583-29F4D01D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B0FC6C-F44E-4817-ABB7-FD72A9BF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5712C2-40C6-40FD-9AE1-6EA71C73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5C16AD-0BC7-41E2-8F08-2AB3E04A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EE5D4-75DD-4BDE-B9AF-1715D0575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D63787-0051-4DB1-A89E-F3AE9A9A0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510FE6-3FCB-4AA3-9C70-76B8BC098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BF31B9-B878-4E55-B4CB-1C04A62B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DA3CC0-AE6D-4E37-A4D2-ED9DA573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4CE553-F0A0-4A79-A7E3-75CF74C3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6D2DAD-DC0C-42F7-B312-6F3719E5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D82D-F70E-42EA-AC2D-3DE700B6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4309C3-1747-4E4C-B901-B25D73E4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1AF420-6BDA-4BBF-91D2-F12E44DF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5CD847-8023-43F5-996A-89060329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6A5860-0697-4D9C-9084-01EA4941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8D8E42-F2BB-4E65-A98B-BC0C7046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35B235-97C4-4CFB-A15B-1F97F2F03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999441-A55E-4652-B614-E95552199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AC5BA4-44BA-460E-8E23-23FB210A2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64453C-31E6-42E6-B300-FC4DA71E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30D2F2-DEE3-425C-9F89-D3B63313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C463-2E88-414B-BDBA-5D5178CD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82BCBD-3395-489D-8B9B-1B20EFE8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259498-3517-4C84-A127-3A097A5E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2B1C9E-0925-4AC4-8BAD-114A6288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D922C3-3CF9-4FB0-98EC-ADDA1090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5CF53B-D9BF-4ACE-8AFC-FCCBE04E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3F6FBB-349A-4B00-BC19-F5940D85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DA526F-C6F9-48E6-91E5-856CDFF9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32EAF3-E94A-4D5C-B836-73F7EA9FA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DC8BBE-16D5-4861-AB19-872195A62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C2F9F4-180A-445E-8A36-CF9B214BA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4BCA-FF55-4A04-9B6D-19F5A42F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1C5AEE-D6D1-4AD5-97F6-55BB5347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247E8D-A6D9-49CB-9266-8ABEFCBA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C46ACF-5146-4965-BCE3-F68A590C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2E1396-DFE7-4797-B0B3-05A7162F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A75D84-CAD1-4EFD-9616-12759CE7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39558C-0440-417D-AA4B-3F49BBC8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60F5BD-FB11-4E71-B1E3-B135B8E2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644E63-002C-40F8-9C3D-44A3F725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DFB1A8-BA02-4FD4-8CE7-0FE57B9C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3372CF-2528-406B-80BE-6CD9F8659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780B-D555-4E0D-9DA1-AB98BE63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6F6212-257C-4753-A206-3A3474E2B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CF7E48-6662-4EEB-A93D-C10F15629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4695DF-229C-421A-893D-B73E3A18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343330-98A2-48D5-993A-8D80997D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82FCF3-2EDA-4B83-A348-9E8D604B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2C3627-B64D-4F38-A932-DB3D09F4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6DA755-7792-4BE2-8AAD-C9E7241A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AE6995-63DB-4806-908A-33A3E533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198C2C-11B8-41FB-94BA-EF8AC28A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4F27DA-5E24-4EE6-B3F1-CF50F370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A0B1-F99E-4C2B-B6B7-49B20AA5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AC1D7D-49F5-4A3C-B566-130EC708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34E426-9A17-4A03-8824-1E09BA264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3782A0-25D0-4ABF-9D93-461E0D1F0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933BC2-2F9D-464F-BBA0-36B12B883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6873E4-1EA9-4BE6-AC6C-2AF1F047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78132E-58A6-45CD-8E0D-AC4A1B2C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43C5B1-94D8-4F79-9AF8-BFE7573C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CCB602-C3F8-4EC2-B5B3-632141A5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EDD787-8E05-45E6-A9C3-7A2B37F9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173B04-C40D-4400-940A-6CB310C1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F253-6F9F-4EF0-A3A9-DCEE0279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D3AD-BE9B-49F0-9705-C66A9403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57DEA9-808F-4DB0-A2BC-970364BA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FEE1EC-3B63-41C3-BAB5-480D96A4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593A7B-4E5A-45CD-8F92-437CD745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8916DA-EBC3-4E64-8270-6394B5863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6785B1-1EF9-4120-8BFA-CCAF32E00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A2AAF6-2CF3-48BE-BF03-8BCC5DA71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9D7416-E89F-48B8-B61A-C88D043B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4ABCD4-2391-41EF-B307-AB3F4B05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4C034F-32C2-4A94-84B8-3CE3B503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3203B4-C7F6-4800-89F0-B16C6448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19FF-68B6-49F2-B835-4C7BD8A2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7CFB0C-50AB-4CAF-9332-79835957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D73F53-746C-4492-B904-5679116D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348C38-C383-4BD3-BBBB-F82B4163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38CE26-6E9F-4CDC-87CB-1F2025FE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ED0656-FF3B-47B1-8DA0-A505376B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504DAB-C26B-4027-88DD-35D20F37C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18F680-187B-4DDD-8CED-05338ABF0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0B7F8C-95C8-447B-951D-B10B1CCFF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D270A2-BFA6-4511-9E8F-82292F9F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C8BF81-0110-497E-8FCD-CDAFC07F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9033-BFEF-4BF0-A74C-EE69AFCC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635123-00BD-4D29-8FC9-270FC213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D1DF7E-854B-4FC5-9436-5BFDF862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108A05-A4BB-4F37-93AD-4B1EBB86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057003-0CAA-4EBC-B9D4-6606871E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C31BE8-8A58-4A96-A414-08BE90BC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653590-538C-4429-9653-847162D4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2ADF2A-51BB-407F-A318-23A7F015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25BAE8-3776-4499-82D7-CA3A0938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2CDBFC-8F9C-49EF-B685-6A198F227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594202-6D9E-4E6D-AEBB-FC3B0D28E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FFFC-8C66-492C-8E90-B17E40C63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B2D502-8CF1-4082-90CD-E9AFA812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2CC73C-FC12-4B93-931E-D48465E7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5CA71E-A172-4AED-9C25-05CED65B5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77CB60-2C38-4E4E-A6AA-FE71A7D9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EC8870-BEBE-4D98-A362-93E11FC1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1C7E82-C79D-4340-B440-ECFEEA69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C640C7-7D8F-42E1-A796-506E6D40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F96DDF-D15E-489F-8155-96EA77C4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0364CA-D9BD-4283-B847-2B837D25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4568E8-7AE7-493C-997F-5A4A4A520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B474-9F91-4490-9D29-8EC619DFB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A6EDAF-D9FE-4BEF-B6D8-30492495C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4D22E6-542B-46D1-9FF6-BF164451D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CE733D-47F9-4850-AB3E-05F2A347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326323-E4A2-47FB-B9EC-FBC57E95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4722E8-673A-46B0-8F32-F8C9431D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572963-943F-4820-AEBB-999FA105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63E837-0152-4B2B-8D46-D78FA49D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573114-0A4E-413B-B7D0-98F033E9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731BA2-2A48-4F04-A96D-D58F4919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58E897-4F85-417D-8B70-CD66419E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7F79F-02C2-4A0C-A969-B6CF0CB7F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BA0BBA-DCD0-4AE0-943E-1D0B6D97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B26010-7C2B-4080-8CDC-7A123CC87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34E6C5-D5C7-4921-9FE2-6BF4F262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03B23-8C20-4FD2-8CB8-4F6C954D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502E1-A685-499E-B63F-5F045367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5576A-7F99-412A-858D-2F3DAC66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D6DA6-2DAD-43F5-AD81-18545826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FCA3-AABC-405D-A25A-22F1B2C3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0681F-570F-456B-AFEB-2FEEFA9E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A71BE-1DE0-4389-BE58-79A42AF2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916AF-C635-4C10-B066-903E3E82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2B070-D8CB-43E6-A407-061E15F8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B4D73-98D7-4535-863A-25B0710D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309D2-4C9B-4CB7-8E1D-E7F0E5D1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0B58E-5A7A-488E-8413-A28A70059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75D50-76C5-47BD-BC5B-9CFD931A9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B693A-5F7A-4955-A661-D2F5A8E0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EDFBC-4448-4091-AA2E-4014E030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3DF2-EA38-4520-AF26-EBF11D58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C1D64-865D-42AC-A232-5E5309C4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F74F3-E438-4D9D-9BE9-E1990835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95F61-E891-4446-B58C-322F4B5C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32CC2-1697-412A-9EE3-03F70EF3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DB447-25BA-4192-AB44-D13865BA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7F864-D7B0-4E8E-BBF6-EC2DC9F4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40D42-6587-448F-8613-4BC0BB41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E70D6-B984-4783-B7DF-088FC3F1F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5E1FC-A635-4A49-915C-CB109016F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14D52-AC18-472F-82D0-5C41EA8CF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2841-D416-4ED0-AC29-CEF5BDB0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68549-011E-4DBF-91B8-1F67C81E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E9847-B34E-4861-9D18-43C99217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BDB73-107A-4562-9189-AF8337A5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CFEDC-88C3-439F-8912-2C6704BC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5054A-FD7C-48F0-95D9-E1FDC418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C6057-97BE-46BF-A416-91010D4A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746A4-0A79-43D3-94C4-4A6A8725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F2A5F-C517-4722-B403-E81B8422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5865C-6219-4196-A81D-3A4A06BD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6D691-2011-4F29-96D3-73F7CB603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B472-8E50-4D97-96C8-01E73260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797CC-AA8F-421E-A45D-61A3E7F21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BF0B4-8203-4DE2-A8C7-2973D9FA7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392ED-89D2-44F6-B97E-519EF835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487B0-A941-48E6-9A65-E62B5C75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CFFA8-B636-4A6A-AD84-9DEB9E3F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43D07-79DE-4560-9E2B-3D8CB86B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1F2A9-BE9A-4A38-AD90-98ACA058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10016-E6CB-4131-B813-3DC67DC0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A5E2A-8C38-433D-9704-A0DF48B4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2502B-C6B9-43FC-9150-5C7DAF2C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1CAE-AC0F-4AD9-B71D-D30B3D27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8793E-F49A-4ADF-B5D2-AB52797C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2D74C-4758-431F-8215-F86E18286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CD2BB-8B8F-4692-ADAE-98B6ECB99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B23F0-F187-4788-8374-61623DC73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AC7DE-75D1-4073-8E2D-3096840A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BE5FD-46AF-4754-A274-33B3E162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09983-98C3-41C5-A951-5A8D1C7C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3C748-B0F0-44F2-95FE-71A51ED6C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7234E-FFF0-45C2-8667-BC4ADCD9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C577F-24F6-4B02-9E2B-C952E8F2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1945-A6C8-4DB0-AA17-585ED676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DA9B7-ACDE-420F-B5D6-7313D145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F8EDD-3513-4D3E-9167-D84A55DE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A27AC-3D15-4F45-9417-88AAA08F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C3A4B-835A-4D03-A48D-A21A3AF85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FC7BA-69EE-427E-83A6-4A6875F0C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9F06F-CC0D-4FFB-9B22-1CF0C2745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3587A-D9EA-4357-92AF-34CFFFAD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6E45C-299A-4680-B39A-21ED8CC0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9E79A-BB58-4E5A-8F51-65C1D69C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5DC65-4C42-46C3-AB6A-BF1B9324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0A38-9167-4375-A7DC-CBDF9478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12C45-91D1-49E8-8C0F-C72592BB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BF7B7-45EA-4E27-AFF3-15F12351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D042B-6C77-4157-9416-BC1975F0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1967A-EF50-4703-A997-35F6661A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20798-6CFC-41E7-B445-A0DC9DC1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00143-8773-47F0-8EC5-082B7BC9B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FCB30-C7F6-4A73-B7D7-122E44D66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70B110-ACA3-495F-B277-B41486443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40261-682D-4CF5-87E4-29208E43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AFF29C-7580-4DC5-ACEA-88331777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31AC-07FA-44B4-8BE2-6627832981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5D4A-0B9D-41FD-80EE-0DB4E8748D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4A8A-D9CF-41B2-B120-0DA9D66897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7AB1-5F59-424A-8FD1-DD45C7A688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4071-19C3-42BA-8715-3F284B7EE6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46C6-10D0-4637-9862-BAFD64C412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FF50-85EC-49B5-91DE-5DBFF22D18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51C3-0720-49A2-A597-5709495831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CF7C-917B-4325-BEF2-F6B61815EC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77EE-A42F-46DB-AE21-78A74090AD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60F9-CFB1-4979-84E1-C008C1E94B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166C-7FF8-43AE-B53C-E2D1D9146A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1051-BB72-469C-AC52-D922CED0F9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0B7C-D354-4CED-9A83-ABD9E252CD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3436-E5B6-4255-9FB5-9C42FDF958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CBC5-DF4E-49E4-B65E-A503CEBB5D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C49F-7FD9-4001-AA68-8F7E32E9E9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EA57-B870-49D6-8A90-2A14D9BE7E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A585-021D-47BA-B7D9-AB9B4C2BFC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5BB4-4D79-43BE-B5FA-F87D24E7A1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AF5B-92CD-4C12-BD28-5AF2C32302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D96C-EC70-4593-AD4A-878D0E110B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2BD2-C1F6-466C-A6CC-58B25705B1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5949-8951-4CC0-817C-0B3400B38A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B533-EA9A-4493-9EC6-293A3BB44E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BAA0-CB98-4B29-A805-B85392204E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085F-9A50-4C5A-9276-9F3FD8F5A7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63B7-07A3-4FF0-8F5A-A1652C6573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3EB6-2EBD-4BDC-94E5-15BCDC6798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C532-FF9B-4205-8513-A5B52F57BD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9FBF-78EF-450F-A1BB-6A76B3A47A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5BE4-404A-486D-8154-781012479D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22A3-CA32-4BD8-8789-9A67828439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D13E-B9FD-4BC2-A198-D26C7F8F50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6257-3EE3-4266-8E05-0600468261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5527-282C-4B68-B22B-5E3E4CF09F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6B02-924B-4376-96E0-CB0A3CA954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CE61-C0A2-4B2C-A1B4-20773374A2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7981-6B10-4917-8629-BECD26DCE2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F329-7F5D-4C7A-BBBD-B620EF6F95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1557360" y="2938320"/>
            <a:ext cx="602928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图片 69633" descr=""/>
          <p:cNvPicPr/>
          <p:nvPr/>
        </p:nvPicPr>
        <p:blipFill>
          <a:blip r:embed="rId1"/>
          <a:stretch/>
        </p:blipFill>
        <p:spPr>
          <a:xfrm>
            <a:off x="252360" y="2004840"/>
            <a:ext cx="8639280" cy="28483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2"/>
          <a:stretch/>
        </p:blipFill>
        <p:spPr>
          <a:xfrm>
            <a:off x="6588000" y="2579760"/>
            <a:ext cx="1800360" cy="4460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3"/>
          <a:stretch/>
        </p:blipFill>
        <p:spPr>
          <a:xfrm>
            <a:off x="7164360" y="3156120"/>
            <a:ext cx="1008000" cy="4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图片 68609" descr=""/>
          <p:cNvPicPr/>
          <p:nvPr/>
        </p:nvPicPr>
        <p:blipFill>
          <a:blip r:embed="rId1"/>
          <a:stretch/>
        </p:blipFill>
        <p:spPr>
          <a:xfrm>
            <a:off x="266760" y="907920"/>
            <a:ext cx="8610480" cy="2810160"/>
          </a:xfrm>
          <a:prstGeom prst="rect">
            <a:avLst/>
          </a:prstGeom>
          <a:ln w="0">
            <a:noFill/>
          </a:ln>
        </p:spPr>
      </p:pic>
      <p:pic>
        <p:nvPicPr>
          <p:cNvPr id="1054" name="图片 68610" descr=""/>
          <p:cNvPicPr/>
          <p:nvPr/>
        </p:nvPicPr>
        <p:blipFill>
          <a:blip r:embed="rId2"/>
          <a:stretch/>
        </p:blipFill>
        <p:spPr>
          <a:xfrm>
            <a:off x="826920" y="3854520"/>
            <a:ext cx="8001000" cy="22384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3"/>
          <a:stretch/>
        </p:blipFill>
        <p:spPr>
          <a:xfrm>
            <a:off x="4211640" y="2608200"/>
            <a:ext cx="1152360" cy="4460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4"/>
          <a:stretch/>
        </p:blipFill>
        <p:spPr>
          <a:xfrm>
            <a:off x="2541600" y="5545080"/>
            <a:ext cx="863640" cy="4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图片 67585" descr=""/>
          <p:cNvPicPr/>
          <p:nvPr/>
        </p:nvPicPr>
        <p:blipFill>
          <a:blip r:embed="rId1"/>
          <a:stretch/>
        </p:blipFill>
        <p:spPr>
          <a:xfrm>
            <a:off x="420840" y="189000"/>
            <a:ext cx="8543880" cy="621036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2"/>
          <a:stretch/>
        </p:blipFill>
        <p:spPr>
          <a:xfrm>
            <a:off x="6877080" y="1311120"/>
            <a:ext cx="719280" cy="44640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3"/>
          <a:stretch/>
        </p:blipFill>
        <p:spPr>
          <a:xfrm>
            <a:off x="6877080" y="2492280"/>
            <a:ext cx="1224000" cy="4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图片 66561" descr=""/>
          <p:cNvPicPr/>
          <p:nvPr/>
        </p:nvPicPr>
        <p:blipFill>
          <a:blip r:embed="rId1"/>
          <a:stretch/>
        </p:blipFill>
        <p:spPr>
          <a:xfrm>
            <a:off x="252360" y="819000"/>
            <a:ext cx="8639280" cy="556272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2"/>
          <a:stretch/>
        </p:blipFill>
        <p:spPr>
          <a:xfrm>
            <a:off x="1619280" y="4278240"/>
            <a:ext cx="2232000" cy="9367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3"/>
          <a:stretch/>
        </p:blipFill>
        <p:spPr>
          <a:xfrm>
            <a:off x="3708360" y="5891040"/>
            <a:ext cx="3672000" cy="4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图片 65537" descr=""/>
          <p:cNvPicPr/>
          <p:nvPr/>
        </p:nvPicPr>
        <p:blipFill>
          <a:blip r:embed="rId1"/>
          <a:stretch/>
        </p:blipFill>
        <p:spPr>
          <a:xfrm>
            <a:off x="557280" y="1743120"/>
            <a:ext cx="8029440" cy="337176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2"/>
          <a:stretch/>
        </p:blipFill>
        <p:spPr>
          <a:xfrm>
            <a:off x="2050920" y="4033800"/>
            <a:ext cx="1513080" cy="4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图片 64513" descr=""/>
          <p:cNvPicPr/>
          <p:nvPr/>
        </p:nvPicPr>
        <p:blipFill>
          <a:blip r:embed="rId1"/>
          <a:stretch/>
        </p:blipFill>
        <p:spPr>
          <a:xfrm>
            <a:off x="372960" y="189000"/>
            <a:ext cx="8591760" cy="629604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2"/>
          <a:stretch/>
        </p:blipFill>
        <p:spPr>
          <a:xfrm>
            <a:off x="8101080" y="2565360"/>
            <a:ext cx="512640" cy="4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0428" descr=""/>
          <p:cNvPicPr/>
          <p:nvPr/>
        </p:nvPicPr>
        <p:blipFill>
          <a:blip r:embed="rId1"/>
          <a:stretch/>
        </p:blipFill>
        <p:spPr>
          <a:xfrm>
            <a:off x="204840" y="1243080"/>
            <a:ext cx="8734320" cy="4371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3492360" y="2473200"/>
            <a:ext cx="1224000" cy="3142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6813720" y="2482920"/>
            <a:ext cx="647640" cy="3142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2340000" y="2862360"/>
            <a:ext cx="647640" cy="3142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5"/>
          <a:stretch/>
        </p:blipFill>
        <p:spPr>
          <a:xfrm>
            <a:off x="2268360" y="3274920"/>
            <a:ext cx="574920" cy="3142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6"/>
          <a:stretch/>
        </p:blipFill>
        <p:spPr>
          <a:xfrm>
            <a:off x="3995640" y="3274920"/>
            <a:ext cx="574920" cy="3142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7"/>
          <a:stretch/>
        </p:blipFill>
        <p:spPr>
          <a:xfrm>
            <a:off x="2411280" y="4456080"/>
            <a:ext cx="1008360" cy="3142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8"/>
          <a:stretch/>
        </p:blipFill>
        <p:spPr>
          <a:xfrm>
            <a:off x="6227640" y="4456080"/>
            <a:ext cx="1152720" cy="3142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9"/>
          <a:stretch/>
        </p:blipFill>
        <p:spPr>
          <a:xfrm>
            <a:off x="3276720" y="5238720"/>
            <a:ext cx="57456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图片 59410" descr=""/>
          <p:cNvPicPr/>
          <p:nvPr/>
        </p:nvPicPr>
        <p:blipFill>
          <a:blip r:embed="rId1"/>
          <a:stretch/>
        </p:blipFill>
        <p:spPr>
          <a:xfrm>
            <a:off x="209520" y="1033560"/>
            <a:ext cx="8724960" cy="47908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2"/>
          <a:stretch/>
        </p:blipFill>
        <p:spPr>
          <a:xfrm>
            <a:off x="8317080" y="2295360"/>
            <a:ext cx="360360" cy="3146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3"/>
          <a:stretch/>
        </p:blipFill>
        <p:spPr>
          <a:xfrm>
            <a:off x="2050920" y="5445000"/>
            <a:ext cx="100836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58373" descr=""/>
          <p:cNvPicPr/>
          <p:nvPr/>
        </p:nvPicPr>
        <p:blipFill>
          <a:blip r:embed="rId1"/>
          <a:stretch/>
        </p:blipFill>
        <p:spPr>
          <a:xfrm>
            <a:off x="219240" y="1247760"/>
            <a:ext cx="8705520" cy="43624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8317080" y="1709640"/>
            <a:ext cx="360360" cy="3142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8317080" y="4475160"/>
            <a:ext cx="36036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图片 57352" descr=""/>
          <p:cNvPicPr/>
          <p:nvPr/>
        </p:nvPicPr>
        <p:blipFill>
          <a:blip r:embed="rId1"/>
          <a:stretch/>
        </p:blipFill>
        <p:spPr>
          <a:xfrm>
            <a:off x="214200" y="1957320"/>
            <a:ext cx="8715600" cy="29433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8326440" y="1969920"/>
            <a:ext cx="360360" cy="3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56324" descr=""/>
          <p:cNvPicPr/>
          <p:nvPr/>
        </p:nvPicPr>
        <p:blipFill>
          <a:blip r:embed="rId1"/>
          <a:stretch/>
        </p:blipFill>
        <p:spPr>
          <a:xfrm>
            <a:off x="295200" y="1114560"/>
            <a:ext cx="8553600" cy="46288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2"/>
          <a:stretch/>
        </p:blipFill>
        <p:spPr>
          <a:xfrm>
            <a:off x="8091360" y="2997360"/>
            <a:ext cx="43200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55300" descr=""/>
          <p:cNvPicPr/>
          <p:nvPr/>
        </p:nvPicPr>
        <p:blipFill>
          <a:blip r:embed="rId1"/>
          <a:stretch/>
        </p:blipFill>
        <p:spPr>
          <a:xfrm>
            <a:off x="257040" y="1419120"/>
            <a:ext cx="8629920" cy="40197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8086680" y="2665440"/>
            <a:ext cx="43200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图片 54276" descr=""/>
          <p:cNvPicPr/>
          <p:nvPr/>
        </p:nvPicPr>
        <p:blipFill>
          <a:blip r:embed="rId1"/>
          <a:stretch/>
        </p:blipFill>
        <p:spPr>
          <a:xfrm>
            <a:off x="257040" y="776160"/>
            <a:ext cx="8629920" cy="567720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8028000" y="3659040"/>
            <a:ext cx="512640" cy="4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图片 52231" descr=""/>
          <p:cNvPicPr/>
          <p:nvPr/>
        </p:nvPicPr>
        <p:blipFill>
          <a:blip r:embed="rId1"/>
          <a:stretch/>
        </p:blipFill>
        <p:spPr>
          <a:xfrm>
            <a:off x="271440" y="843120"/>
            <a:ext cx="8601120" cy="51717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2"/>
          <a:stretch/>
        </p:blipFill>
        <p:spPr>
          <a:xfrm>
            <a:off x="8028000" y="2003400"/>
            <a:ext cx="512640" cy="4460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3"/>
          <a:stretch/>
        </p:blipFill>
        <p:spPr>
          <a:xfrm>
            <a:off x="5867280" y="4321080"/>
            <a:ext cx="1873440" cy="4460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4"/>
          <a:stretch/>
        </p:blipFill>
        <p:spPr>
          <a:xfrm>
            <a:off x="7596360" y="4911840"/>
            <a:ext cx="1223640" cy="4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2:50:26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